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73010"/>
        <c:axId val="53976498"/>
      </c:barChart>
      <c:catAx>
        <c:axId val="48973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76498"/>
        <c:crosses val="autoZero"/>
        <c:auto val="1"/>
        <c:lblAlgn val="ctr"/>
        <c:lblOffset val="100"/>
        <c:noMultiLvlLbl val="0"/>
      </c:catAx>
      <c:valAx>
        <c:axId val="53976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73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2EF-C01D-4EF8-BFBB-BC1C4B3C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882-4171-4A5C-B047-A5DD6AC3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A7B-E4D4-4677-9C62-52E50D52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2E8-DA5C-4589-8E6F-0C795688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996-9705-4EA4-BB29-89CA98C4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AD4-CA0A-4799-9BAD-CC6C5399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530-0DA3-4185-8B32-8F3BF2C9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5C21-7B08-4E13-A180-C2C0584E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A04-A1E3-4CE4-9E52-D5C2026E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8CF-4314-4E7B-9E58-5BA91EF8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DA5-2BC2-47C2-8C5F-B7ADABE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A69-C90F-45C6-B34C-1A11AEBB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0914D-9398-4A2F-83D2-2D90303F6E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