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93713"/>
        <c:axId val="10321768"/>
      </c:barChart>
      <c:catAx>
        <c:axId val="37793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21768"/>
        <c:crosses val="autoZero"/>
        <c:auto val="1"/>
        <c:lblAlgn val="ctr"/>
        <c:lblOffset val="100"/>
        <c:noMultiLvlLbl val="0"/>
      </c:catAx>
      <c:valAx>
        <c:axId val="10321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93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31B-BA27-47DC-89AC-802AE48F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E59-AAB7-4318-A06F-9970259B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F3A-3B1F-4509-85D7-87F177BF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63E-2878-423C-BF9C-5EF9A6C4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E6F-6152-4711-832A-6A46E714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D6E-8594-4167-8BD5-A2A2DC2B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5B3-BE94-4261-BE82-58EB92DB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6B1-006E-4D18-B9FE-65FD297B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D9E-F1D2-4549-8BFA-5B1D3EC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257-FC24-4BA9-B463-3BA4B972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51C-5429-4FC5-A2A9-8FFF9298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688-B276-418E-9B56-851EECBC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11FC3-C956-4EEC-BFC4-A36FCD3021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