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56624"/>
        <c:axId val="69493002"/>
      </c:barChart>
      <c:catAx>
        <c:axId val="696566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93002"/>
        <c:crosses val="autoZero"/>
        <c:auto val="1"/>
        <c:lblAlgn val="ctr"/>
        <c:lblOffset val="100"/>
        <c:noMultiLvlLbl val="0"/>
      </c:catAx>
      <c:valAx>
        <c:axId val="694930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566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84A7-2AED-4EBF-9969-A8A41760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14FB-378A-4493-A74E-ACB5B448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C58D-7DC7-44B6-9481-53EF612C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9E7C-0432-4F07-9E39-B5771C25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9D0D-A4CE-481A-845C-0E131970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161-5266-4232-91E4-F90E8EC4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7AF9-462A-462F-9DAC-0D7AE987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599C-FF6E-4A4D-82A6-FDF6CF38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47EF-C2CB-45A0-A3D1-A13B58B2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2C11-7EC6-48FD-A994-3CDE2ED4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E89C-0CC4-41ED-9086-4F868A86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A371-BCFE-44E8-8791-0EB9D26F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8BB3C-1745-4340-AD83-6C8701DF45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