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88891"/>
        <c:axId val="82072128"/>
      </c:barChart>
      <c:catAx>
        <c:axId val="77488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72128"/>
        <c:crosses val="autoZero"/>
        <c:auto val="1"/>
        <c:lblAlgn val="ctr"/>
        <c:lblOffset val="100"/>
        <c:noMultiLvlLbl val="0"/>
      </c:catAx>
      <c:valAx>
        <c:axId val="820721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88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894-E6E9-40F9-B123-EF8E9C35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BEE-279B-4E02-9922-F1A1A6DF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D7F-ADB0-4FA6-8D89-5E1C9B5C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635-88A8-46A8-96F3-3F8F1AFE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EAF-3A0C-4A03-9539-67A46381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B58-6BBB-411E-9BC3-E6793A25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DFE-0CA9-43C6-891F-03221C41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5DF-EECE-4570-BE5D-F939894A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C25-C730-477C-BC29-BB48AC28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9F3-6254-4064-A690-0A2C2401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6D2-4100-4E1A-A6E7-2D03B56B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A2FA-CCF8-4C4E-9B34-2396D089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36A5B-8171-4A5F-AE60-C35D2C9716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