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81104"/>
        <c:axId val="21625047"/>
      </c:barChart>
      <c:catAx>
        <c:axId val="31481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5047"/>
        <c:crosses val="autoZero"/>
        <c:auto val="1"/>
        <c:lblAlgn val="ctr"/>
        <c:lblOffset val="100"/>
        <c:noMultiLvlLbl val="0"/>
      </c:catAx>
      <c:valAx>
        <c:axId val="21625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81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C05-4ABC-4BEC-957C-6C9E4D4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A79-F2EE-474F-A7BD-362A083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476-4176-4F4E-9CA2-75B0B768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56B-76D9-447A-81E1-D9D8913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62-6297-4E5C-957E-5D40D5F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D10-1363-4FB0-9741-DD46718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F21-674A-427B-BEA1-284771F5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361-5A61-46A7-B0A1-D0866D31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4D7-A771-4EC6-AB04-AC33862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F5-3E5B-4B27-B5F9-274B08C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8AC-559F-4025-A616-C96DA2DC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1C9-ED44-4103-B838-8045B28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84F3-C9F4-4D02-AEBA-7EBBDB6BCE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