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61768"/>
        <c:axId val="94268283"/>
      </c:barChart>
      <c:catAx>
        <c:axId val="96561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68283"/>
        <c:crosses val="autoZero"/>
        <c:auto val="1"/>
        <c:lblAlgn val="ctr"/>
        <c:lblOffset val="100"/>
        <c:noMultiLvlLbl val="0"/>
      </c:catAx>
      <c:valAx>
        <c:axId val="94268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61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00D-424F-4AD7-BC93-B110CBBB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958-7774-4A55-A0D3-04DEA6EA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7C7-CB2A-4877-AD6E-3FC98909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C75-E46B-43BD-9C20-8B5978AE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496-271A-445E-A6E8-C39C88B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2C2-5E6B-4C2B-B9E6-8F09050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CB1-DB0A-4261-A7CA-C604336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C25-0C7B-4C39-B33D-273920CD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002-AAEB-4FDD-803A-D85E9DBB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0B7-7970-425A-B317-9FDA165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CCF-A927-49A0-B2DD-CE9777D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DD7-AEF4-4B3E-B164-B2424E6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A36A9-E129-4045-BD24-AF3F20502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