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800487"/>
        <c:axId val="7246153"/>
      </c:barChart>
      <c:catAx>
        <c:axId val="678004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46153"/>
        <c:crosses val="autoZero"/>
        <c:auto val="1"/>
        <c:lblAlgn val="ctr"/>
        <c:lblOffset val="100"/>
        <c:noMultiLvlLbl val="0"/>
      </c:catAx>
      <c:valAx>
        <c:axId val="72461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8004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8464-A438-4032-88E2-889991932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A871-9A6C-4927-9A3F-B70830C99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1CE6-E850-4039-905B-190EFF666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0E91-9469-4BBF-B627-E8C422225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90C7-0C74-4B95-8C49-F1E0E94DA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4828-404F-477A-B154-0F03819FF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E72F-0D42-49CD-AF00-A72813CC5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CD6C-1FCD-48C9-B45E-80AD22FAF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3359-F5C9-4E51-89FD-6F31A07CC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FCD1-0280-4646-9858-1330F286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988E-F4F0-415A-B2D6-E1BE3202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C17D-DB32-46D2-9202-E8171D8B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7F2F00-9554-4A12-A124-07110EAD55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