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875281"/>
        <c:axId val="78746296"/>
      </c:barChart>
      <c:catAx>
        <c:axId val="90875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46296"/>
        <c:crosses val="autoZero"/>
        <c:auto val="1"/>
        <c:lblAlgn val="ctr"/>
        <c:lblOffset val="100"/>
        <c:noMultiLvlLbl val="0"/>
      </c:catAx>
      <c:valAx>
        <c:axId val="78746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75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15F-695B-4F32-90A7-1D1CDBFD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4C8-6F68-4823-9133-4B5830B0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0DD-6C55-4267-9078-83140BEF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3C0C-6229-4502-9FD8-A0B363CE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3DB-E628-4AB2-9924-7D8344B5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64B-D2A5-4935-AF40-61D2CA53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1DF-AB9C-4306-8640-208EBE0F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CED-C240-4E58-A7B5-BEE14C41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FA3-E59F-4EFE-9C92-7E004A85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001-0DFF-4705-BE8C-9BF2D722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C615-A580-4CBF-B52C-E63A5EBC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384-070E-4FB0-8D6A-9D6D2F99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FBBE8-1FA1-4AB6-B249-5A9C1DBC7C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