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875818"/>
        <c:axId val="32322428"/>
      </c:barChart>
      <c:catAx>
        <c:axId val="928758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322428"/>
        <c:crosses val="autoZero"/>
        <c:auto val="1"/>
        <c:lblAlgn val="ctr"/>
        <c:lblOffset val="100"/>
        <c:noMultiLvlLbl val="0"/>
      </c:catAx>
      <c:valAx>
        <c:axId val="323224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8758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FF83-D660-4DDC-AE6F-021872AF2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707C-DFAD-4777-A7F0-016AB00A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A97B-9AB4-4060-929A-E844D0CA7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6513-79B2-4504-9B9D-9294DF19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F556-BA70-4C5A-B3FF-BECD4344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8BDD-F99E-4A55-B37C-4FBA5755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928D-E144-4BA2-B5DF-0220CE62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A1F0-91CC-4749-A5D1-94A05010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51E3-8AF7-44F5-B72B-ABFD4FC1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537B-3CD1-4E34-94F7-9B814548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1FE0-6CA2-47E3-94EE-FE5AEEF5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A327-B7AF-49BE-A68D-0CB36E2F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26EA67-C8C0-4C2E-A6E6-945ABCBB4C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