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82348"/>
        <c:axId val="85392839"/>
      </c:barChart>
      <c:catAx>
        <c:axId val="85382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92839"/>
        <c:crosses val="autoZero"/>
        <c:auto val="1"/>
        <c:lblAlgn val="ctr"/>
        <c:lblOffset val="100"/>
        <c:noMultiLvlLbl val="0"/>
      </c:catAx>
      <c:valAx>
        <c:axId val="85392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82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6C2-71D7-4AB8-BF16-EB354D70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32E-85A4-4C71-A6F8-822DD817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FD2-B1E9-483D-BF3D-A3A5C4A0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DC6-FAF0-4A62-BF42-6838B182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37F-1A17-42E8-8FB2-DE101ECA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BB9-797C-46E2-84CA-C57FE3F9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CDE3-A250-451D-B8AD-B99507D0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993C-C62E-46DB-9393-960B184F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8CC-D1C4-4A5F-9FEC-B277011B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F8F-66B8-43A7-B66B-36ACFA11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7EFB-9CA1-452E-8152-2300B828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B595-AB37-4D0B-ACA7-E33F434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7F5D4-8D85-471F-98BD-0AE1A642E7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