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78721"/>
        <c:axId val="13609524"/>
      </c:barChart>
      <c:catAx>
        <c:axId val="31678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9524"/>
        <c:crosses val="autoZero"/>
        <c:auto val="1"/>
        <c:lblAlgn val="ctr"/>
        <c:lblOffset val="100"/>
        <c:noMultiLvlLbl val="0"/>
      </c:catAx>
      <c:valAx>
        <c:axId val="13609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8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E1A-EDC6-4BEE-BC01-483BA40D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B00-E835-40E8-9FF2-995774C8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BE5-5DA6-4E4B-8508-0BC97D75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902-C34A-4D0D-9E30-747DE054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AA2-8EEB-47BD-B560-2CE69741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299-577C-4E63-B473-37A4F359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3BB-FF31-4A4E-BF87-C1B8C54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879-968A-4751-94FF-50A57007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38B-B846-4D0F-86F9-A97B8A4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FA8-F0E7-4E58-A32E-AF653BBB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C69-6DF9-43A2-90AD-FC1C50D1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75A-4031-4EB7-82BB-F753002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417BF-6D33-4D44-90C3-89AA387980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