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0571"/>
        <c:axId val="28288427"/>
      </c:barChart>
      <c:catAx>
        <c:axId val="4660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8427"/>
        <c:crosses val="autoZero"/>
        <c:auto val="1"/>
        <c:lblAlgn val="ctr"/>
        <c:lblOffset val="100"/>
        <c:noMultiLvlLbl val="0"/>
      </c:catAx>
      <c:valAx>
        <c:axId val="28288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110-877B-4A51-94AF-B3ED2D9F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A05-1D87-4525-A6D9-F3E95116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8E0-9A32-4C7E-9753-486D0D98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7E7-8C25-4271-9FD0-2D2614D5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92B-F9AF-4790-B03C-2935360A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3C8-6853-4424-A1F1-211709B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D32-E7DB-45BB-9633-C29BF179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4B3-EE3B-4013-A906-E7EFD9AE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103-E98F-4E58-ABB9-ADE1035A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5A7-784D-48E7-9068-8D617D7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AA3-30DB-4392-9020-35AA1CC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E00-CCC5-47BA-A377-DD8E08E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42591-E99D-45D7-AA14-5C47E328DE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