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4474"/>
        <c:axId val="673625"/>
      </c:barChart>
      <c:catAx>
        <c:axId val="3044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625"/>
        <c:crosses val="autoZero"/>
        <c:auto val="1"/>
        <c:lblAlgn val="ctr"/>
        <c:lblOffset val="100"/>
        <c:noMultiLvlLbl val="0"/>
      </c:catAx>
      <c:valAx>
        <c:axId val="673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4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376-61BA-46B2-98C7-6F3AD847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C20-38FC-456E-BACE-F2943CB8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C93-AA49-4909-BA17-CC09F0C6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600-6EDA-45B3-895C-6B2CB351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750-14F6-4DF4-808F-6457D674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B5B-2EC5-4F53-AEC7-3D27B3D5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D75-A6D1-4F2C-A2A9-E7751BED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167-C027-4C45-BD26-F2B17D43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282-2093-41F1-BB36-7B4E1EEA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F4B-B3BA-4821-BD92-326ABA36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C68-A6E4-4A33-9019-0477A283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4FD-D21D-40A5-B795-4F142CBA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B4811-FFBD-440A-B39A-76EB5CCBBE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