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53633"/>
        <c:axId val="73866466"/>
      </c:barChart>
      <c:catAx>
        <c:axId val="71753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6466"/>
        <c:crosses val="autoZero"/>
        <c:auto val="1"/>
        <c:lblAlgn val="ctr"/>
        <c:lblOffset val="100"/>
        <c:noMultiLvlLbl val="0"/>
      </c:catAx>
      <c:valAx>
        <c:axId val="73866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3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87E-2F86-4D5C-BC90-9EC4391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E2C-0CF8-4C00-9C34-D2C8277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9E0-72FB-4886-9BA1-3F64C8EE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A47-9B01-4ADA-AEEE-EF85EE3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C28-8568-41B2-B79A-5B2E398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D99-C8D7-41C5-B5DA-7119DE7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099-140D-48CD-8FE7-025BFBE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1C3-E8F5-4334-814E-45E8641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F6A-DC75-4B67-A48F-4F67B0B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6B7-F608-455F-AA3F-50462A7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21B-291F-44FD-92D2-401406F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F98-B743-4835-8081-BDB6D4E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97A05-FFCA-485B-AAC2-7FABE2935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