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06856"/>
        <c:axId val="7497705"/>
      </c:barChart>
      <c:catAx>
        <c:axId val="16806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7705"/>
        <c:crosses val="autoZero"/>
        <c:auto val="1"/>
        <c:lblAlgn val="ctr"/>
        <c:lblOffset val="100"/>
        <c:noMultiLvlLbl val="0"/>
      </c:catAx>
      <c:valAx>
        <c:axId val="7497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06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44F-80B5-4215-B3E4-5C88FA91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F9E-AB76-45C3-A770-E4986CE2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9DE-24CD-421F-BEC8-DE3F6BA9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102-44FB-43A4-968E-54AEF1E3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C4B-4694-4BCB-BCCA-BF3EA3B0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928-7071-4913-BA06-924D7AA6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51A-D4A8-4767-94A7-FB754718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227-9617-4190-B73D-93441A35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B9C-78C0-46D1-8CF6-F907E33F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097-F1A2-4897-AEB5-5AD530D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872-65F1-4631-8336-58CB8DA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11E-A827-43A5-89CC-8C144CE0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CB34F-9FB2-4032-89A6-EE3551B380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