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99815"/>
        <c:axId val="40417988"/>
      </c:barChart>
      <c:catAx>
        <c:axId val="97199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17988"/>
        <c:crosses val="autoZero"/>
        <c:auto val="1"/>
        <c:lblAlgn val="ctr"/>
        <c:lblOffset val="100"/>
        <c:noMultiLvlLbl val="0"/>
      </c:catAx>
      <c:valAx>
        <c:axId val="40417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9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622-B60E-47D3-8F6C-655538E3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78A-5B10-4B2D-83CA-D7443023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23F-2F74-4048-969E-60803563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67A-27B6-4D1B-A5CB-43FE5404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952-5DDB-4D03-A761-020365D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0E9-0529-4F61-90B8-42497BE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42A-54B3-4B68-AE33-C3E140E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830-1750-4417-AC49-F52E320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BF3-812A-4C5A-8BFD-26C8543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30E-51EB-40DA-A8F1-77AD23F8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9EA-22C0-4E7E-97E9-2665C7C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DD0-4370-49B0-8EA7-F584B4E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C1108-2EA1-4315-9465-571122EC5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