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69325"/>
        <c:axId val="64753107"/>
      </c:barChart>
      <c:catAx>
        <c:axId val="16869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53107"/>
        <c:crosses val="autoZero"/>
        <c:auto val="1"/>
        <c:lblAlgn val="ctr"/>
        <c:lblOffset val="100"/>
        <c:noMultiLvlLbl val="0"/>
      </c:catAx>
      <c:valAx>
        <c:axId val="64753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69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EFE-D477-41C3-9E02-BDA0FAD1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57B-EB75-4B60-866B-361282FD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A2B-BC17-4652-B5C5-D7F3876C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A4B-766C-419A-9175-3C8CBFF7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CB3-F258-434F-A737-5FAF5F21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B73-C7CD-4196-A5AF-944725E6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C9B-B664-4ADE-B736-6504BE07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28B-EE34-44A7-8A1C-7826A2F4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F3A-CBF4-4502-8068-FCE92382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810-5A8E-4C8D-BEF9-D2212FEB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11C-5B04-4A52-B7BA-C6E01609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BEF-AC56-4498-8333-63738C58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27FC9-908B-47CF-A7CA-D8181F7B52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