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71588"/>
        <c:axId val="90458738"/>
      </c:barChart>
      <c:catAx>
        <c:axId val="306715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58738"/>
        <c:crosses val="autoZero"/>
        <c:auto val="1"/>
        <c:lblAlgn val="ctr"/>
        <c:lblOffset val="100"/>
        <c:noMultiLvlLbl val="0"/>
      </c:catAx>
      <c:valAx>
        <c:axId val="90458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715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7B11-681A-4C20-B537-C99560DA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721-4D81-4FDC-A41A-8007D99F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56A-E33E-4EDB-9A5E-B5FFDBCA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B442-8746-4095-A35A-35DFABED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25D-F8BE-4199-924C-1050EBF0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3B0F-7549-4591-AE01-33A2A8FC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B75F-C693-44A6-93A1-DDE23932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2EBC-17AF-410E-923C-9214BE64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D6A-0492-4AA5-A967-7FE179AC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601B-A765-4818-B164-4B52D7F1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A076-5F0C-46E5-8992-0CC459A2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D198-E1DF-4A86-9160-BA3F4E14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C4B5F-7DB6-42EE-9F99-98E894C1B9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