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17383"/>
        <c:axId val="4779946"/>
      </c:barChart>
      <c:catAx>
        <c:axId val="10317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946"/>
        <c:crosses val="autoZero"/>
        <c:auto val="1"/>
        <c:lblAlgn val="ctr"/>
        <c:lblOffset val="100"/>
        <c:noMultiLvlLbl val="0"/>
      </c:catAx>
      <c:valAx>
        <c:axId val="4779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17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4A2-8681-4725-B41A-E1E52848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202-67EC-451A-A3F2-9CA5DA88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267-443C-4AE5-95C4-AD549150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56F-CEC9-44F9-9F29-171371BB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5F4-D092-4791-A9CA-019B4BE7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D7B-0877-4FA9-9635-A4D023FC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388-C656-493C-B206-56B35F65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73C-AE89-4256-90A0-C7BBC5E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161-531D-4457-ACF9-7D54E309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B8B-738F-48B8-9184-62B152F8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703-30F7-4F54-82DE-F6CEDFF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AC4-69DA-4B39-90C2-E0D17271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A8823-5C52-43D2-91E2-15DDC42D71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