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256672"/>
        <c:axId val="96439245"/>
      </c:barChart>
      <c:catAx>
        <c:axId val="172566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439245"/>
        <c:crosses val="autoZero"/>
        <c:auto val="1"/>
        <c:lblAlgn val="ctr"/>
        <c:lblOffset val="100"/>
        <c:noMultiLvlLbl val="0"/>
      </c:catAx>
      <c:valAx>
        <c:axId val="964392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2566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7337-EB13-4AD5-9007-26F809866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EBFB-5436-4E1A-BB58-D6D642385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E205-775B-4F46-80C0-414E0D642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ED9C-B3C9-4B30-81CD-8BAEE71F7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9CE3-05EC-49FE-A4B2-915F24FD7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3EFF-CB27-4E50-8D8E-CF648F102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42A3-CC25-4584-9A8E-B9DE92A66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0411-2ADA-430A-941F-2D512EF79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49D5-0C2B-4221-8961-F3C6842C6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D99C-1573-4225-85A4-BA4492F1C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6DC4-F85C-4A6A-99AC-FDDF83AB1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7141-2A91-4836-9AF4-A6044C721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09DA91-7E0B-4509-9FD4-9397F96ECF7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