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66398"/>
        <c:axId val="9725040"/>
      </c:barChart>
      <c:catAx>
        <c:axId val="59366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5040"/>
        <c:crosses val="autoZero"/>
        <c:auto val="1"/>
        <c:lblAlgn val="ctr"/>
        <c:lblOffset val="100"/>
        <c:noMultiLvlLbl val="0"/>
      </c:catAx>
      <c:valAx>
        <c:axId val="9725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66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89F-D3B4-4927-8029-5A60CC24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7BE-F058-464B-8FFC-3441D47E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549-C6AB-41F9-8A63-FE0293D7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8BC-F201-4FB4-A80F-1CCBD3F2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450-76A2-4237-936D-4C0ED32B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AC9-A59D-4391-B500-3E50098C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FAF-CE5C-465F-8FFF-E9200B14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1E4-E920-4B3F-8712-7A839656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311-BF9E-4294-BC9A-E40C3842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EAD-E31D-4969-9197-F01AC917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5D2-AADF-41A5-B9A8-375021D5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2D8-6CF7-4D81-8E63-B6543A65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1279E-5A33-446D-8B5F-68C4651F9D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