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5486709"/>
        <c:axId val="38608923"/>
      </c:barChart>
      <c:catAx>
        <c:axId val="6548670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608923"/>
        <c:crosses val="autoZero"/>
        <c:auto val="1"/>
        <c:lblAlgn val="ctr"/>
        <c:lblOffset val="100"/>
        <c:noMultiLvlLbl val="0"/>
      </c:catAx>
      <c:valAx>
        <c:axId val="3860892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48670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12235-2D29-4446-8FE2-7FBA93138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016D5-9A9B-44CC-A524-8E5727A16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D3828-11BF-4F88-9F4B-663A46072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C0E00-A465-4CB8-A127-0F409C191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5AFA3-1A83-44ED-A069-F1CD0FFBA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1D958-4E35-4E84-95ED-CF459A28E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65D87-3B81-47B0-83F5-2907F381A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DF82F-8518-41AD-921D-B41016976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083EB-1FCB-4A7D-97FF-7C4C901F0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548DE-AC6B-411A-AFCF-77216E229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8F510-645D-4399-A0F1-E4455F011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DB353-4CF5-4D4D-A274-55F0CD447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9D23A2-88D9-4591-8E99-B9970FA7A6C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