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4294"/>
        <c:axId val="24185927"/>
      </c:barChart>
      <c:catAx>
        <c:axId val="88354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5927"/>
        <c:crosses val="autoZero"/>
        <c:auto val="1"/>
        <c:lblAlgn val="ctr"/>
        <c:lblOffset val="100"/>
        <c:noMultiLvlLbl val="0"/>
      </c:catAx>
      <c:valAx>
        <c:axId val="24185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4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485-4840-4E96-A84E-E4259ED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650-CC8A-4CFB-B175-2EA080F0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4F0-6B12-4975-A467-0203534C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BD9-DBE7-4CF7-9E9B-18A3A774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10C-2F88-4928-842B-386D382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DFC-1A90-4950-A3BC-24D1C04E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2BB-C6F8-413B-B48E-70367A2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803-2DB7-4C8A-99D8-3AC3DA0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862-30BF-4753-A181-3B2B38C5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AF4-8276-4DE0-9954-E53794B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F79-244A-426C-AA88-A5CDAF1B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3BE-AE30-47F7-AC70-3EBC92D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BA5A4-3E77-47E2-8181-9BA5129263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