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90270"/>
        <c:axId val="47050786"/>
      </c:barChart>
      <c:catAx>
        <c:axId val="30090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50786"/>
        <c:crosses val="autoZero"/>
        <c:auto val="1"/>
        <c:lblAlgn val="ctr"/>
        <c:lblOffset val="100"/>
        <c:noMultiLvlLbl val="0"/>
      </c:catAx>
      <c:valAx>
        <c:axId val="47050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90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5C9-A494-47D5-B424-73C491FF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3FB-D9AA-4191-81FB-A119AB06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9F5-4C7D-47E2-B615-50404D07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899-0C26-488D-BB2F-2DE6AA85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562-2846-42A4-B3BE-74190175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640-4023-450C-AD87-A13DDFE5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AAA-2D46-4EE9-A8C0-297A8B1A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A59-5AE0-48C0-A12F-DE758B4C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749-70C9-4505-8B20-7FAEAD77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E8D-3364-4134-9084-234AB4C8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41C-75A2-476E-ADAE-51E6B9CD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9AA-CEB3-402C-A0C1-63428F81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5FF05-1BA0-42BA-82D6-CDE2864B03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