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54615"/>
        <c:axId val="59818226"/>
      </c:barChart>
      <c:catAx>
        <c:axId val="78754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18226"/>
        <c:crosses val="autoZero"/>
        <c:auto val="1"/>
        <c:lblAlgn val="ctr"/>
        <c:lblOffset val="100"/>
        <c:noMultiLvlLbl val="0"/>
      </c:catAx>
      <c:valAx>
        <c:axId val="59818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54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C68-40E4-4090-BF17-36436A08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EB1-FDBD-4843-BD75-AC146B9F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2F5-98A0-4D97-8F0D-CD84C6ED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808-B9BB-4C39-9F10-FCE15630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49A-8C82-4AA9-B3DB-A981016D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E1C-1DEF-4090-8763-302255A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83A-E495-4AE9-9C1A-A230412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255-B4B2-4DBF-9D2F-B279491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7D4-43D9-4F4E-AF0C-8A3A8BF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525-840D-456C-9C3B-58C5B91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32E-2B43-4C53-BD27-6AF1DD8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AE7-3D92-4DFA-BBB0-DF31D90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E2C2A-6B72-409A-8BAB-7A6EA2F0E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