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58983"/>
        <c:axId val="99052802"/>
      </c:barChart>
      <c:catAx>
        <c:axId val="48258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52802"/>
        <c:crosses val="autoZero"/>
        <c:auto val="1"/>
        <c:lblAlgn val="ctr"/>
        <c:lblOffset val="100"/>
        <c:noMultiLvlLbl val="0"/>
      </c:catAx>
      <c:valAx>
        <c:axId val="99052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58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56C-EC0F-45B4-8169-4DBC446B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F8A-70AE-4A74-9E4D-043B3F13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5A1-5847-40BD-9AB3-B8433B69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EA5-6F7A-4C92-9AAC-3BD7737B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9940-80FC-405F-81C9-52FD083F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141-08E3-4456-9238-61DF4C38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F44-EC91-413C-ADF0-694AA303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7436-FD26-4B3A-8837-E1477C83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535-C1C2-4B45-BC8E-AC5E1B77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3DD-4417-4CD5-A0BE-4706F604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11D-4332-4917-ACD3-F81CA2E6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0D4-6D03-4130-9247-30B95D95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F6578-CFC0-45E3-9168-7D5AC5A6BC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