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58202"/>
        <c:axId val="12041785"/>
      </c:barChart>
      <c:catAx>
        <c:axId val="21358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41785"/>
        <c:crosses val="autoZero"/>
        <c:auto val="1"/>
        <c:lblAlgn val="ctr"/>
        <c:lblOffset val="100"/>
        <c:noMultiLvlLbl val="0"/>
      </c:catAx>
      <c:valAx>
        <c:axId val="12041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58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EDF-7ACB-493B-8561-5120A758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99F-7774-4068-BE04-CBE4EF9B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036-ED86-49A2-A34C-3C3877DD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18E-A199-4338-995C-D748B4F9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EA5-3714-46E1-9031-161A4F6D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01E-C55A-4E8B-9D19-AE19BDFA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EFD-35D9-4E27-9D6E-482DE69D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3BA-0381-4978-9CDA-781F5864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F49-EBCF-48E2-BEAB-CBBA7FB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09E-5300-40C4-B7C7-188492ED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411-55C3-4B09-A771-EC8C64AA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7D9-515B-4904-919E-B000658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EDD24-F18E-4A66-9366-AF3B408505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