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59081"/>
        <c:axId val="37888917"/>
      </c:barChart>
      <c:catAx>
        <c:axId val="34359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8917"/>
        <c:crosses val="autoZero"/>
        <c:auto val="1"/>
        <c:lblAlgn val="ctr"/>
        <c:lblOffset val="100"/>
        <c:noMultiLvlLbl val="0"/>
      </c:catAx>
      <c:valAx>
        <c:axId val="37888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59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C08-EC85-4B75-95F8-0881E391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0E3-82FE-4EEF-9DFA-14F870B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48C-48AB-4CF9-878C-CA3F8C74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5A3-CF85-4AAB-908C-AC5B77BD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4A1-7B2E-4FE3-A5E0-6470869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08F-D878-4518-AFD7-65B4315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1CD-64D1-4AE1-B266-697B934E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734-541B-4AF0-A22F-65127B96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66E-9B73-4B9D-92AA-D62C030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5BF-B691-4DF2-8A2C-FD2A35E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DE8-7DD3-473B-9326-4DE6FBC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D72-FB07-46F0-BBAF-90F5CA6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20FFF-6BE3-48DC-805B-B93EB5BAF0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