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21307"/>
        <c:axId val="61253197"/>
      </c:barChart>
      <c:catAx>
        <c:axId val="84321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53197"/>
        <c:crosses val="autoZero"/>
        <c:auto val="1"/>
        <c:lblAlgn val="ctr"/>
        <c:lblOffset val="100"/>
        <c:noMultiLvlLbl val="0"/>
      </c:catAx>
      <c:valAx>
        <c:axId val="61253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21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7F2-B6AC-4669-8498-2894FF31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D55-82C2-4300-BF21-C7C06FB3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9D7-E4BA-4D3D-B9B6-846DE8D8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856-3036-4135-8F96-2935EF89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A6F-7339-4075-93B0-8C62BA78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6A0-A538-4D12-9609-16D725A3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FCE5-624C-4997-8368-58B9A04E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89D-6833-479C-BD42-8B4D70C3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601-182A-4B0A-AFE9-9AD82EF3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09F-A86B-4D04-B028-6F18F92A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10D-AB01-4C64-9F52-50DD7C0D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B8B-21D5-48BE-8355-4C693575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98D27-67D1-4686-8E8F-D8EAA52D39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