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36003"/>
        <c:axId val="53633025"/>
      </c:barChart>
      <c:catAx>
        <c:axId val="17336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3025"/>
        <c:crosses val="autoZero"/>
        <c:auto val="1"/>
        <c:lblAlgn val="ctr"/>
        <c:lblOffset val="100"/>
        <c:noMultiLvlLbl val="0"/>
      </c:catAx>
      <c:valAx>
        <c:axId val="53633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36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581-A2AE-4FBF-B906-30DA24CE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98F-02EA-4EB7-A67D-832F8B23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9D1-B3CF-4FA2-AE8C-7E17CCEF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DB5-8052-4B1D-9BB4-AF48B73B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AC2-FA78-435D-934E-BC158CE1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99A-A923-4B92-9F0F-F3F2D76B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078-4C69-4C6F-BC8F-53C9B11C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300-10F1-456E-9CA3-651DAD66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692-21B9-4E21-81FB-F33A74A8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B10-F329-4201-86D4-ADA223D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814-AC09-4411-B3AB-DA374F6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2A1-A43C-477E-B6E9-7DD6830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248A4-DB55-4618-B4BB-B91FF1F454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