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78027"/>
        <c:axId val="92327164"/>
      </c:barChart>
      <c:catAx>
        <c:axId val="83878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27164"/>
        <c:crosses val="autoZero"/>
        <c:auto val="1"/>
        <c:lblAlgn val="ctr"/>
        <c:lblOffset val="100"/>
        <c:noMultiLvlLbl val="0"/>
      </c:catAx>
      <c:valAx>
        <c:axId val="92327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8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D5D-7AC4-4020-A1E1-3251B191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91C-1E68-4B5D-9E68-2805A08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364-A22A-4133-A977-933EE215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CCB-D858-4A41-B0DE-6DD4C41C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289-8633-453D-AE3B-20D28FA9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EAD-6EF9-4CFA-9343-93C51B99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042-5B9F-4420-84AC-3AD85F8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551-0C33-4A57-A723-7B66E94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96B-9244-45C4-81A5-0ED471A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40D-A25A-4284-8514-1B8E3CA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EC6-8B5E-43A3-AAA9-7923F6F5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9D8-ADDF-4D23-B56E-8DBE25E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D7D3F-8AE1-48AE-91D9-1CC614C3E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