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19024"/>
        <c:axId val="15637682"/>
      </c:barChart>
      <c:catAx>
        <c:axId val="858190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37682"/>
        <c:crosses val="autoZero"/>
        <c:auto val="1"/>
        <c:lblAlgn val="ctr"/>
        <c:lblOffset val="100"/>
        <c:noMultiLvlLbl val="0"/>
      </c:catAx>
      <c:valAx>
        <c:axId val="15637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190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729-D2E2-4AE2-B037-C46089F4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C82-259A-41C9-BD0F-EB9549AB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3F4-B15E-4BD7-8B09-BC760DF1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F6B-DB6F-4BA1-94B1-22E38893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4D0-27D1-4E3A-9C94-E4A9005B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000-804D-4AF4-B214-6468CDFA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414-DEF3-4481-9A7C-1BBD04FF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B07-5F40-45A3-9050-993FF1E3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48E-DF46-43FB-9856-749BDCF0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932-A3F5-4FED-9296-60CA95AF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04B-4A21-4587-A8D5-ACAF6783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868B-D732-45F6-AB48-0D071428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05BC4-7B5F-4779-A651-FEE0C67C6A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