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44056"/>
        <c:axId val="87859185"/>
      </c:barChart>
      <c:catAx>
        <c:axId val="74144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59185"/>
        <c:crosses val="autoZero"/>
        <c:auto val="1"/>
        <c:lblAlgn val="ctr"/>
        <c:lblOffset val="100"/>
        <c:noMultiLvlLbl val="0"/>
      </c:catAx>
      <c:valAx>
        <c:axId val="87859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44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029-7BD3-4531-B3BA-AE818525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EBB-EE89-464B-B9EE-0A204F6F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09B-629E-4EF8-AFC2-3169628A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1F29-B8C9-42EF-929D-5FE80831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9A9-B275-483C-80FA-C094B4A1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B3C-C36F-4CB0-9C70-FBE0E234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9EF-A256-44A3-B8F5-D2AD6954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527-5F4D-49E0-B171-07A17CC1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51D-D56E-488B-B752-64F6363E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5ED-A231-4918-98F0-2D7D504B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622-1B56-4675-AF99-A3919282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8E7-37E0-493D-8B20-64617397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0430B-D9C2-4D7C-9FF5-4E4545EC56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