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34803"/>
        <c:axId val="73019875"/>
      </c:barChart>
      <c:catAx>
        <c:axId val="79934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19875"/>
        <c:crosses val="autoZero"/>
        <c:auto val="1"/>
        <c:lblAlgn val="ctr"/>
        <c:lblOffset val="100"/>
        <c:noMultiLvlLbl val="0"/>
      </c:catAx>
      <c:valAx>
        <c:axId val="73019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34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79F-0EFC-4945-B2D1-BB813BF9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1C5-F6F4-4C6C-A65D-F4EA1CFE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662-1E7F-4A42-8ADA-EF0C97D4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4BE-FC86-44DD-B702-10513E52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6F8-98FF-428E-B68E-08C9BFC4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677-05D5-4DAD-84FE-9A7EB641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F1A-9140-46C6-9146-DA62FDD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474-85B7-4390-BE8C-FDF3E66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94C-CC2C-4847-9E75-F1B55A0E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3C0-513A-4625-9F87-58087C8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807-F907-43A8-881F-39953E7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88E-EB57-4DC5-BFAC-F6C73CA8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14414-27E8-46C2-8E4C-7237DD3712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