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12717"/>
        <c:axId val="66675631"/>
      </c:barChart>
      <c:catAx>
        <c:axId val="92812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75631"/>
        <c:crosses val="autoZero"/>
        <c:auto val="1"/>
        <c:lblAlgn val="ctr"/>
        <c:lblOffset val="100"/>
        <c:noMultiLvlLbl val="0"/>
      </c:catAx>
      <c:valAx>
        <c:axId val="666756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12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5B13-55B6-4DFD-89FB-17383327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F1AC-3654-480E-A3E3-D17D3818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F70-A6D3-4AB1-A562-E6798EBF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66B-AC8B-48EF-95DE-EEA0BBA2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624-66F4-449E-A89E-67E664F6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DD9-233A-4FB5-A35A-567A73FB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2C6-9360-46FC-A79C-3358EF5C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24C4-AE38-42B6-9783-5B2D639B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4E3-569F-4F55-B6B9-FC281717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B0F-636C-4B6A-A944-1E61F48F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4F5-0EF8-4716-901D-86D8D748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8D2A-067C-41E1-A770-78E2405F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7E50D-F037-4B8C-BA25-A0D269A927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