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56602"/>
        <c:axId val="27077085"/>
      </c:barChart>
      <c:catAx>
        <c:axId val="858566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77085"/>
        <c:crosses val="autoZero"/>
        <c:auto val="1"/>
        <c:lblAlgn val="ctr"/>
        <c:lblOffset val="100"/>
        <c:noMultiLvlLbl val="0"/>
      </c:catAx>
      <c:valAx>
        <c:axId val="270770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566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7A6-C96D-4C06-93B6-0D88D914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4782-2405-4388-AABE-F499C157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E6B-468C-4798-81B5-4EEE1E58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768-6951-43B8-B047-BB8A3F20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2042-FD7E-41DD-BBD3-D75ED68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5F9-B14A-4335-85DA-D552DA80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543-AF20-4674-8D38-54D1FFDA5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D2C4-EC3A-43B7-A513-6F8DAFDC8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983-120B-4ED3-A35D-4C94EFF4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65CF-EA9D-40B4-A086-986022DF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498-0243-4D1E-B74E-F98B0B25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3A4-B7DB-45E1-976F-A11F42F2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50338-6AD0-4E06-8511-74D9E56A25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