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14893"/>
        <c:axId val="27607792"/>
      </c:barChart>
      <c:catAx>
        <c:axId val="61814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07792"/>
        <c:crosses val="autoZero"/>
        <c:auto val="1"/>
        <c:lblAlgn val="ctr"/>
        <c:lblOffset val="100"/>
        <c:noMultiLvlLbl val="0"/>
      </c:catAx>
      <c:valAx>
        <c:axId val="27607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14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34B-C122-4B14-9374-2C3A1046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2D4-4E11-4D32-8B81-E01E70C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2DD-9EFC-4BC7-B8A1-C5DD99A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154-8A91-4034-AE87-FB889A38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D16-7363-461A-9EFF-CFF58F6C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038-5945-46CF-875D-BED0239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4F4-F1C3-442A-B618-590AA66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1F1-5B83-4347-97B7-ED72F1B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6E1-60B0-49E0-BB45-1770F3F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CDB-C2EB-4394-BAF7-362A8F0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1F6-A32B-4D35-956A-7B99451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232-5EAB-4561-8E3C-F5D9D678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824B0-4A6F-4804-8BD9-FD1C08010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