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84400"/>
        <c:axId val="43481249"/>
      </c:barChart>
      <c:catAx>
        <c:axId val="60784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81249"/>
        <c:crosses val="autoZero"/>
        <c:auto val="1"/>
        <c:lblAlgn val="ctr"/>
        <c:lblOffset val="100"/>
        <c:noMultiLvlLbl val="0"/>
      </c:catAx>
      <c:valAx>
        <c:axId val="43481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84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733-425F-4D6E-8083-49E9CE18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159-FAAC-4916-B0BF-D084DF14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762-72F3-4000-84C2-842EE0B9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1FE-B278-4050-8302-BDB474FB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CDE-C85F-428C-881F-1A8519DA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80C-49C0-48F9-AF6D-C898B19E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B39-EB94-4B76-9797-A862D017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A61-8FCA-4B30-8E4D-F078CECD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56D-B251-4411-B029-B43B6274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6BD-BE07-4E02-9CFA-58EDD0C7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8CE-CA71-4FC1-9522-1EAB7B17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C27-FAE9-4142-BED1-AF366DC8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1E38F-16C6-4A97-ADDE-FC6A1D5FDE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