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25737"/>
        <c:axId val="63582896"/>
      </c:barChart>
      <c:catAx>
        <c:axId val="7562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2896"/>
        <c:crosses val="autoZero"/>
        <c:auto val="1"/>
        <c:lblAlgn val="ctr"/>
        <c:lblOffset val="100"/>
        <c:noMultiLvlLbl val="0"/>
      </c:catAx>
      <c:valAx>
        <c:axId val="63582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85F-0F1E-4FA8-802E-FDFDD73F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657-0E68-4F63-B82F-F9CF2639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01C-D7AC-49F1-B00E-C45E9255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4D6-3708-411A-84B3-4249A406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01E-F222-4E93-A3C2-735417F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F10-5FAA-4C8A-B58F-E35FBC3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2AE-2E52-4316-9F63-62E402DB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AF9-E5B4-4681-8992-C0AEC9F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5F5-9CBC-49C0-8A87-AF8A7093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1F9-1BFC-43C2-BCC9-B312A67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66E-1BD3-4F24-8BB4-60C7282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619-7F0B-4866-913B-5A86E7F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BC844-1968-49F4-A867-F5666A6FC0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