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174959"/>
        <c:axId val="57389998"/>
      </c:barChart>
      <c:catAx>
        <c:axId val="721749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89998"/>
        <c:crosses val="autoZero"/>
        <c:auto val="1"/>
        <c:lblAlgn val="ctr"/>
        <c:lblOffset val="100"/>
        <c:noMultiLvlLbl val="0"/>
      </c:catAx>
      <c:valAx>
        <c:axId val="57389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749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821B-FDE7-4F24-B0CA-394FFB27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BAF9-B94C-4DE2-97C6-AFBA601E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6E9-C856-4E02-9175-2D6FA694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8F27-0FFF-415F-843E-EF42CE1F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DDBD-9667-4FD6-8D4F-FBAEB61C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EE3D-78EE-4DB9-99CD-A2A509F2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79B-1302-414D-B7C3-EA615840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E49-3A8C-4439-8DD0-82D3B647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DEE9-C680-4602-BBAD-D8DFEAAB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7668-044F-4967-83AA-7BD3E2E4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B4A0-4DB1-454F-A048-BF803046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CF9-6EE0-43DB-8953-E52B205D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DA75D-0BF9-45D4-8618-174C54F503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