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02243"/>
        <c:axId val="10332846"/>
      </c:barChart>
      <c:catAx>
        <c:axId val="86502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32846"/>
        <c:crosses val="autoZero"/>
        <c:auto val="1"/>
        <c:lblAlgn val="ctr"/>
        <c:lblOffset val="100"/>
        <c:noMultiLvlLbl val="0"/>
      </c:catAx>
      <c:valAx>
        <c:axId val="10332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02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F54-93C2-4738-BCFD-9C49A699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3B2-D249-4664-8592-1AD4D0E0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2C1-AE38-4B9E-8190-5CC7B22D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0FC-3ECB-4BBA-A745-A61D17FC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724-CAF0-4046-9AE8-BB156ECD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268-58DF-46CB-9FF1-3DB4C4C4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256-31A1-4D8F-9E4F-622A8BF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5F1-01FA-4ED7-947C-9B85E92C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A9C-E784-4B7B-BB5D-121F404A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052-3F3B-4995-B797-8FC69A5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516-2F4D-486E-A296-3178220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D1D-0F07-4685-884E-F51A82EA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0885C-9DC5-4F83-AEE5-475EE38A76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