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6010"/>
        <c:axId val="51275545"/>
      </c:barChart>
      <c:catAx>
        <c:axId val="5526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5545"/>
        <c:crosses val="autoZero"/>
        <c:auto val="1"/>
        <c:lblAlgn val="ctr"/>
        <c:lblOffset val="100"/>
        <c:noMultiLvlLbl val="0"/>
      </c:catAx>
      <c:valAx>
        <c:axId val="5127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6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7CD-6F4A-4040-BCA0-009A74F9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C21-975C-4D25-9B87-2ADC916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D3C-6D9B-40C3-8FF5-C8430F4F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C16-DC2D-4342-BD2E-C49EE435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78F-95E7-40B6-B972-4300098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47C-34E5-406E-82F0-F3D9BE6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01B-0E5B-4385-BFB4-BAD2812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A31-2F35-4EC5-A9B4-61110452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5F1-E1DA-4892-A838-D844EEC3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0DF-3693-405D-BC30-36FCB6C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2AA-398B-4FFD-8E7A-10F8EA3D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182-2B8A-4AA3-9FDA-32D1EEF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4D9C6-CAC9-48DE-858D-25F8FBEF0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