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29793"/>
        <c:axId val="71573467"/>
      </c:barChart>
      <c:catAx>
        <c:axId val="73629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73467"/>
        <c:crosses val="autoZero"/>
        <c:auto val="1"/>
        <c:lblAlgn val="ctr"/>
        <c:lblOffset val="100"/>
        <c:noMultiLvlLbl val="0"/>
      </c:catAx>
      <c:valAx>
        <c:axId val="71573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29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0CF-CA64-4FB8-87B3-5FBA1499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558-C507-4D87-8081-82F39DA8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DD7-FBB1-48D1-924D-A8D2CB1F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47E-6E96-4511-A7AC-1860D566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736-7C2D-4C17-A622-18F3DA8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438-B096-426D-AB05-7FD976B9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6EA-E811-4E15-A8E9-F2136362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F0F-FFED-4ABB-98CC-32DCA92A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E59-07D6-4887-A765-1730BC2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F3C-0CF8-4592-A4CC-B173BE1B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64A-BE5E-47BB-875C-31B654E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0A7-F662-49BB-A46D-D9EC83B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93FE4-4858-470F-A697-B52498EF37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