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421041"/>
        <c:axId val="7826718"/>
      </c:barChart>
      <c:catAx>
        <c:axId val="864210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26718"/>
        <c:crosses val="autoZero"/>
        <c:auto val="1"/>
        <c:lblAlgn val="ctr"/>
        <c:lblOffset val="100"/>
        <c:noMultiLvlLbl val="0"/>
      </c:catAx>
      <c:valAx>
        <c:axId val="78267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210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7A4B-4B39-47C5-ADCD-CBCCFCD10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0FEF-5B53-415F-9508-2F93302B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F350-A6F4-4914-A4BB-CA57A76C2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A9E7-4BF1-47BD-8C1B-592A6C138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2AE5-E2BF-4FDC-BA9F-634B6AF8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F280-0626-4EEC-AA9F-A8D326EC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C9AD-E3E4-4329-B4A2-BACFABA9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1D8E-3C14-4682-8B69-3ED89247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D221-AB8F-4DD1-9840-6F52FCCE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47DD-CF04-4336-9925-28933098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CA26-78C5-4015-AB2F-390F6234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CFAC-6430-459B-BC51-EE62FE05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4869A-E9C8-4C42-80FC-B403B89189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