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34476"/>
        <c:axId val="19090369"/>
      </c:barChart>
      <c:catAx>
        <c:axId val="29134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90369"/>
        <c:crosses val="autoZero"/>
        <c:auto val="1"/>
        <c:lblAlgn val="ctr"/>
        <c:lblOffset val="100"/>
        <c:noMultiLvlLbl val="0"/>
      </c:catAx>
      <c:valAx>
        <c:axId val="19090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34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6D2-C364-4A3A-B1BE-B61C26BF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96D-B485-4953-A3E8-D651F6C0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54E-2F50-4B53-AF66-DEF4FC34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FA6-03B3-44BC-A5E7-90D9661B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A7A-0F1F-47E8-8E34-23E5337E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8DE-5687-4E43-A89A-ECC8690F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A70-DAD5-4330-B44C-C54003B5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0DA-DF16-492C-B6F6-B86032D2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59E-DE7F-42F9-A9DE-7E37565C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705-FB9F-4274-A4BB-66B7139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5B8-1422-4D40-A08C-95265212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FD1-8CEB-48B4-B564-038591E9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BBF68-B111-43AE-B281-1F01093AC6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