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41608"/>
        <c:axId val="80008515"/>
      </c:barChart>
      <c:catAx>
        <c:axId val="53141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08515"/>
        <c:crosses val="autoZero"/>
        <c:auto val="1"/>
        <c:lblAlgn val="ctr"/>
        <c:lblOffset val="100"/>
        <c:noMultiLvlLbl val="0"/>
      </c:catAx>
      <c:valAx>
        <c:axId val="80008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41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BE2-0BDD-488B-A70C-6367D738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049-63F4-488B-924D-A11B8B80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BCB-7B98-4CC0-871F-C8D26027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EE4-7E63-4BE1-92C6-2A614EBB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3A8-11CB-4A08-A9F8-CAA1C04A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C97-1E75-41D1-87E3-3FBDA74B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A40-13C2-4BCE-9637-90E8D0E1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8E5-B42A-4C21-ABA6-DBB08BE8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2F9-C09B-4575-8601-D1BBBB9C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2E5D-D390-4C33-A719-70B67A87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7DB-EC27-48B0-AE07-2E26F6D5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53D-9EA2-4BF1-9DC0-BC1F54BF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3CCF5-B7F0-445F-AA91-D185EEC9C6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