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929300"/>
        <c:axId val="10000888"/>
      </c:barChart>
      <c:catAx>
        <c:axId val="779293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000888"/>
        <c:crosses val="autoZero"/>
        <c:auto val="1"/>
        <c:lblAlgn val="ctr"/>
        <c:lblOffset val="100"/>
        <c:noMultiLvlLbl val="0"/>
      </c:catAx>
      <c:valAx>
        <c:axId val="100008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9293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D7C8-FCCE-471E-B598-DF0BC05E0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AC16-589D-4CD3-924C-1B5089ED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B8CB-EB6B-4A1B-BE8B-436005DD8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C6BB-1792-48A9-96D3-DE4845899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CA6B-EBD2-4EBB-95EA-EA929010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ECCC-D6E1-4671-89A3-E20D8126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7765-58A9-4A78-BC0B-088A62E8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DEC9-F899-4765-986B-3F15DD6B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1E16-5CB7-4FC6-84F8-2C991717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85B2-A58F-46F2-934B-65D6BBF4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16AD-9EAA-45A7-B436-44F4DBC9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229D-B29D-441A-818A-6C04CD58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9F22B7-160A-4208-8903-45A1C8DD22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