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241312"/>
        <c:axId val="36447799"/>
      </c:barChart>
      <c:catAx>
        <c:axId val="602413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447799"/>
        <c:crosses val="autoZero"/>
        <c:auto val="1"/>
        <c:lblAlgn val="ctr"/>
        <c:lblOffset val="100"/>
        <c:noMultiLvlLbl val="0"/>
      </c:catAx>
      <c:valAx>
        <c:axId val="364477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2413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E5FD-139E-49D6-AB3B-8AFC3D314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6DDF-9F98-42F3-9F21-3C687196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A049-15FB-4058-8428-AE0FDEA2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134A-8CE9-42EF-B260-CD70E91B2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B899-7041-46A6-BD33-BAED2B7E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8FE1-7516-43E8-877B-72B34920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7F70-916F-449A-9EBA-B22E3903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7999-3F54-4447-A62F-F7A2B241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EA4A-035B-4240-BBF3-08AD5563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F9EE-F55A-44A3-8CD9-790FE8BC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2678-9E75-40C5-B7D0-395408A4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2D16-25FC-408F-8C17-AC4E691D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38252-FBEA-4BEA-9068-86187AF852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