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32275"/>
        <c:axId val="98650125"/>
      </c:barChart>
      <c:catAx>
        <c:axId val="13232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50125"/>
        <c:crosses val="autoZero"/>
        <c:auto val="1"/>
        <c:lblAlgn val="ctr"/>
        <c:lblOffset val="100"/>
        <c:noMultiLvlLbl val="0"/>
      </c:catAx>
      <c:valAx>
        <c:axId val="98650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32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04C-8EEF-4C05-A19B-C6436F46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5B2-7F10-452D-A6E9-6C0A1F9D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21F-C755-4547-8F22-43CCAB00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F42-3FBA-4434-B89C-8E40C44E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2F9-2657-404C-8BF9-9746E9B2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D41-E347-4133-81C9-02AEC4E1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C91-83C5-48D4-86CE-D3FF9DDF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250-7E40-4C13-8B1D-6F237F49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080-E0C6-4D0B-8002-55B482E0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8B2-C0B2-4FBB-AE7B-82B34335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E43-3E9E-44A1-AB18-66E1A7C2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6B4-A09D-4A56-9784-DB481E9E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4C16C-9112-4AE3-8620-5032270C28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