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45444"/>
        <c:axId val="24472259"/>
      </c:barChart>
      <c:catAx>
        <c:axId val="36445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72259"/>
        <c:crosses val="autoZero"/>
        <c:auto val="1"/>
        <c:lblAlgn val="ctr"/>
        <c:lblOffset val="100"/>
        <c:noMultiLvlLbl val="0"/>
      </c:catAx>
      <c:valAx>
        <c:axId val="24472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45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73C-21A4-4F67-8C34-C292C0B1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F8B-7086-4A67-A5E5-758E82E3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26A-8EAD-4709-99EC-1AE56262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80C-050E-48EA-8B3B-DE16511B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955-B536-461A-A68C-05999A3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EA9-9347-48F3-841F-E3FFB0B1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D6C-D72A-4455-BBCD-F9CC35B2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157-4D45-4A36-9FBF-F2ABE48A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760-D393-4EC5-B0D9-292279DE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4C3-6587-40F0-A946-E866D81A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59D-879A-4AAF-82EF-38BF3E8E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94E-053D-472A-8227-DF49661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2CFAE-50BE-4486-823E-B0DB2EF8C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